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56C26-06B2-4A78-A8BD-4603C25F4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E1B4-C39E-44F9-BE89-295664D73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27EE6-D1F7-4FB6-97E5-3F5F30880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BC97D-1D45-407A-809E-BF05B736E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3BE17-A6BD-43F2-9D3C-3A1600EA2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BA79D-4DA6-4B83-8435-CC98011F9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60989-1690-43AB-B4D3-7E3C55222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FB77A-7FF1-487B-9D6A-C807C2B17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0562D-CAF3-4B5D-B4E3-97DEC8398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5FAD7-CBDA-41F9-867A-EE88B9C41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AB5CA-382D-4BE6-85C9-D94281370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2A31D-F4BD-4619-85E8-25C6C8AD7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032FF-D1FB-48AC-BAD7-2CA3E837B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2FF74-49A7-4F7D-81C6-EFB0800BF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13EBE-8B3E-4E74-B6E4-58AB14C9D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39E03-DA84-448D-94C0-2C2616D2B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08221-C47A-4721-BC85-7E9247E87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4787F-6773-4861-A00D-75A9056D9F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01C12-5312-4F0C-833E-02D430C09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76507-CD79-4B57-929B-96CDC2214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846E0-AD73-4AAB-8605-59BF0B88A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63984-5286-423F-8AAB-417430337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738AA-0F3B-4FBF-9DDC-085826BBB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894B4-AC44-40DE-B424-49FF9FAB1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4DAD2-FD21-4645-B620-45A7FAB1A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7BEF5-9484-4995-B3E3-993CCCE37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F8890-72D4-427B-BD59-9AAA53622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41972-CFEC-442A-B650-814501534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15A08D-8CAC-43A9-A81C-9DF54E8515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F2EF48-A20D-4071-9142-E3EAEC865F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FDE9BF-0C8B-44E2-B8F2-D2FE026C84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129F3-C2EB-490A-8BB4-2ABBEE0F8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31E3B-E2D6-4C4D-A002-69C32F835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83AC9-A348-4919-AF6E-3FAA632E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3B7A3-4C1E-4639-80B3-C8A768519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6861E-CD67-42C9-905F-AC792687E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71500-65C1-40D3-A347-DCE94B743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8A212-C729-43F8-AFD0-85A1CC4B8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E6E7D-AA73-4DFD-9B84-2BAD9C3E3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101DB-A2C0-4161-B0E2-B20ECCF1B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4EF628-197A-4C86-86C7-3C47AD089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A2C3F5-9D16-41B6-9C15-F84579C471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584F8A-FE19-4D2D-BFB7-2F515ECFA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92CF3D-B4B2-49B0-84B0-06DAF8560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DD5E8-A134-4055-850D-B0081A40A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D691E2-0A6E-4E99-A462-1C409CB7C8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57D1E-4212-41E0-AC57-AA26A1466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1EE78F-F8BB-45D0-82E9-8E12FA7D7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D7319D-53C5-4B83-AA86-900C64004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F435B-8997-4FF9-8D35-001D5D89FF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97CF1-3E6A-4793-A8E5-39834FCDC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EFF20-1607-429F-8E36-1C7C1A966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4F742-B0A2-4318-BB83-F3187C6F8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84BBA9-DACC-46D8-A305-7570ECEA4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60309-E201-4BD5-B7B0-046E40EEFC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95D7C-7E41-4D28-A38B-81BD979D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525820-6B41-4638-9529-65D3DB241F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4013-550A-4819-83D6-FB204A8D6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9F5F7-898F-4D05-842F-13C09524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428A-EDB8-4B0F-90C3-82F9B83C5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cf54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5ae53">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9620-9928-4D74-A816-C5987B171F4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cf5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b5ae53">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969B-2A4C-42D2-AB77-5B8057DFE72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cf54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b5ae5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CD7F-084C-43E8-A675-44385ADB099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cf5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b5ae5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564b3c"/>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55F8-39AC-471D-AEC3-9070B9864D28}" type="slidenum">
              <a:rPr b="0" lang="en-US" sz="1600" spc="-1" strike="noStrike">
                <a:solidFill>
                  <a:srgbClr val="564b3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cf5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b5ae53">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cf54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C72B-313D-4CF5-8312-7DFE612BBD0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262080" y="111852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DO NOW! </a:t>
            </a:r>
            <a:endParaRPr b="0" lang="en-US" sz="4400" spc="-1" strike="noStrike">
              <a:solidFill>
                <a:srgbClr val="000000"/>
              </a:solidFill>
              <a:latin typeface="Franklin Gothic Medium"/>
            </a:endParaRPr>
          </a:p>
        </p:txBody>
      </p:sp>
      <p:sp>
        <p:nvSpPr>
          <p:cNvPr id="216" name="PlaceHolder 2"/>
          <p:cNvSpPr>
            <a:spLocks noGrp="1"/>
          </p:cNvSpPr>
          <p:nvPr>
            <p:ph type="subTitle"/>
          </p:nvPr>
        </p:nvSpPr>
        <p:spPr>
          <a:xfrm rot="19140000">
            <a:off x="782280" y="1810800"/>
            <a:ext cx="6297480" cy="1295640"/>
          </a:xfrm>
          <a:prstGeom prst="rect">
            <a:avLst/>
          </a:prstGeom>
          <a:noFill/>
          <a:ln w="0">
            <a:noFill/>
          </a:ln>
        </p:spPr>
        <p:txBody>
          <a:bodyPr tIns="9000" anchor="t">
            <a:no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ea typeface="Tunga"/>
              </a:rPr>
              <a:t>OPEN UP YOUR TRANCE TRACK IN LOGIC AND AFTER THE DEMO BY THE TEACHER MIX IT DOWN TO A MP3 AND BURN IT TO CD.</a:t>
            </a:r>
            <a:endParaRPr b="1" lang="en-US" sz="2000" spc="-1" strike="noStrike">
              <a:solidFill>
                <a:srgbClr val="000000"/>
              </a:solidFill>
              <a:latin typeface="Franklin Gothic Book"/>
            </a:endParaRPr>
          </a:p>
        </p:txBody>
      </p:sp>
      <p:pic>
        <p:nvPicPr>
          <p:cNvPr id="217" name="Picture 6" descr="C:\Documents and Settings\sc-randall\Local Settings\Temporary Internet Files\Content.IE5\2YSTY1LA\MC900431562[1].png"/>
          <p:cNvPicPr/>
          <p:nvPr/>
        </p:nvPicPr>
        <p:blipFill>
          <a:blip r:embed="rId1"/>
          <a:stretch/>
        </p:blipFill>
        <p:spPr>
          <a:xfrm>
            <a:off x="4716360" y="3105000"/>
            <a:ext cx="3008520" cy="302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259920"/>
            <a:ext cx="6048360" cy="1800360"/>
          </a:xfrm>
          <a:prstGeom prst="rect">
            <a:avLst/>
          </a:prstGeom>
          <a:noFill/>
          <a:ln w="0">
            <a:noFill/>
          </a:ln>
        </p:spPr>
        <p:txBody>
          <a:bodyPr bIns="90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6:</a:t>
            </a:r>
            <a:br>
              <a:rPr sz="3600"/>
            </a:br>
            <a:r>
              <a:rPr b="0" lang="en-GB" sz="3600" spc="-1" strike="noStrike">
                <a:solidFill>
                  <a:srgbClr val="000000"/>
                </a:solidFill>
                <a:latin typeface="Franklin Gothic Medium"/>
              </a:rPr>
              <a:t>PERFORMING YOUR</a:t>
            </a:r>
            <a:br>
              <a:rPr sz="3600"/>
            </a:br>
            <a:r>
              <a:rPr b="0" lang="en-GB" sz="3600" spc="-1" strike="noStrike">
                <a:solidFill>
                  <a:srgbClr val="000000"/>
                </a:solidFill>
                <a:latin typeface="Franklin Gothic Medium"/>
              </a:rPr>
              <a:t>TRANCE TRACK</a:t>
            </a:r>
            <a:endParaRPr b="0" lang="en-US" sz="3600" spc="-1" strike="noStrike">
              <a:solidFill>
                <a:srgbClr val="000000"/>
              </a:solidFill>
              <a:latin typeface="Franklin Gothic Medium"/>
            </a:endParaRPr>
          </a:p>
        </p:txBody>
      </p:sp>
      <p:sp>
        <p:nvSpPr>
          <p:cNvPr id="219" name="TextBox 1"/>
          <p:cNvSpPr/>
          <p:nvPr/>
        </p:nvSpPr>
        <p:spPr>
          <a:xfrm>
            <a:off x="4500720" y="2975040"/>
            <a:ext cx="4392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on Object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perform your Trance track with the promotional material to the clas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elf-evaluate and peer appraise each group’s piece and its impact on the aud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8000" y="260280"/>
            <a:ext cx="896472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PERFORMING YOUR TRANCE TRACK</a:t>
            </a:r>
            <a:endParaRPr b="0" lang="en-US" sz="3200" spc="-1" strike="noStrike">
              <a:solidFill>
                <a:srgbClr val="000000"/>
              </a:solidFill>
              <a:latin typeface="Franklin Gothic Medium"/>
            </a:endParaRPr>
          </a:p>
        </p:txBody>
      </p:sp>
      <p:sp>
        <p:nvSpPr>
          <p:cNvPr id="221" name=""/>
          <p:cNvSpPr txBox="1"/>
          <p:nvPr/>
        </p:nvSpPr>
        <p:spPr>
          <a:xfrm>
            <a:off x="324000" y="1413000"/>
            <a:ext cx="8686800" cy="3744720"/>
          </a:xfrm>
          <a:prstGeom prst="rect">
            <a:avLst/>
          </a:prstGeom>
          <a:noFill/>
          <a:ln w="0">
            <a:noFill/>
          </a:ln>
        </p:spPr>
        <p:txBody>
          <a:bodyPr anchor="t">
            <a:normAutofit/>
          </a:bodyPr>
          <a:p>
            <a:pPr marL="82440" indent="1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s each group presents their Trance track including the promotional material you will need to complete a task. Each group will have ‘£1000’ to spend on all the pieces played today. As a group you need to imagine you are a record store looking to buy the rights of trance music and promotional material and must decide on how much you will spend on each of the tracks. Once you have ‘experienced’ each groups performance fill out the worksheet.</a:t>
            </a:r>
            <a:endParaRPr b="1" lang="en-US" sz="2400" spc="-1" strike="noStrike">
              <a:solidFill>
                <a:srgbClr val="000000"/>
              </a:solidFill>
              <a:latin typeface="Franklin Gothic Book"/>
            </a:endParaRPr>
          </a:p>
          <a:p>
            <a:pPr marL="82440" indent="1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82440" indent="1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TRANCE COMPOSING – SELF-EVALUATE</a:t>
            </a:r>
            <a:endParaRPr b="0" lang="en-US" sz="3200" spc="-1" strike="noStrike">
              <a:solidFill>
                <a:srgbClr val="000000"/>
              </a:solidFill>
              <a:latin typeface="Franklin Gothic Medium"/>
            </a:endParaRPr>
          </a:p>
        </p:txBody>
      </p:sp>
      <p:sp>
        <p:nvSpPr>
          <p:cNvPr id="223" name=""/>
          <p:cNvSpPr txBox="1"/>
          <p:nvPr/>
        </p:nvSpPr>
        <p:spPr>
          <a:xfrm>
            <a:off x="610920" y="1125000"/>
            <a:ext cx="7848360" cy="25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In your groups now complete the self-evaluation.</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9:08:33Z</dcterms:created>
  <dc:creator>Jonathan Savage</dc:creator>
  <dc:description/>
  <dc:language>en-US</dc:language>
  <cp:lastModifiedBy>Randall C.</cp:lastModifiedBy>
  <dcterms:modified xsi:type="dcterms:W3CDTF">2012-03-29T08:36:47Z</dcterms:modified>
  <cp:revision>62</cp:revision>
  <dc:subject/>
  <dc:title>Trance Music</dc:title>
</cp:coreProperties>
</file>